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dt" idx="36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ftr" idx="37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 type="sldNum" idx="38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10B0-9C5A-4FC4-91AC-1015B9D853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51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Each 10-person table at Grove Park counts off 1-4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One’s take question 1-</a:t>
            </a:r>
            <a:r>
              <a:rPr b="1" lang="en-US" sz="1200" spc="-1" strike="noStrike">
                <a:solidFill>
                  <a:srgbClr val="00467a"/>
                </a:solidFill>
                <a:latin typeface="Arial"/>
                <a:ea typeface="Arial"/>
              </a:rPr>
              <a:t> What do we want students to lea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Two’s take Question 2- </a:t>
            </a:r>
            <a:r>
              <a:rPr b="1" lang="en-US" sz="1200" spc="-1" strike="noStrike">
                <a:solidFill>
                  <a:srgbClr val="00467a"/>
                </a:solidFill>
                <a:latin typeface="Arial"/>
                <a:ea typeface="Arial"/>
              </a:rPr>
              <a:t>How will we know when they have learne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Three’s take Question 3- </a:t>
            </a: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How</a:t>
            </a: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200" spc="-1" strike="noStrike">
                <a:solidFill>
                  <a:srgbClr val="00467a"/>
                </a:solidFill>
                <a:latin typeface="Arial"/>
                <a:ea typeface="Arial"/>
              </a:rPr>
              <a:t>will we respond when they don’t lear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lfaen"/>
              </a:rPr>
              <a:t>Four’s take Question 4- </a:t>
            </a:r>
            <a:r>
              <a:rPr b="1" lang="en-US" sz="1200" spc="-1" strike="noStrike">
                <a:solidFill>
                  <a:srgbClr val="00467a"/>
                </a:solidFill>
                <a:latin typeface="Arial"/>
                <a:ea typeface="Arial"/>
              </a:rPr>
              <a:t>How will we respond when they already know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e, Monitor, Support teams as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426C-8D21-42AB-922E-ACF54D139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r, you considered what you already have, and added some things to colum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think about the conversation you just had, and consider you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se ideas in columns two and th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ng the items on this page, what emerges as a strong need, that it may be important to address soon in your distri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set as a Local Curriculum priority for your district to support/improve the work of your teachers and PL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ive 10 minutes for pairs to work together, then share with whole district/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ove to: Popcorn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F53C-AB27-4023-87D8-D9FB93CC8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44D-43E6-41DC-B509-8BEAD807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E73-479B-4105-BEC1-609D9061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E4A-4C9E-4AB0-A579-0770C67A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A4A-7ACB-483A-B7B2-759F9B81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C3B971-0248-427B-AEA2-0E705D9D4DA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537FA1-73A1-4845-B4C4-70A54257B85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6A35BE-F56C-45B4-861E-9E74F223BBD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312A8B-699E-4A8C-B56E-3F60AF3E10A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427C6A-96EE-4482-B975-56DB373C9A4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BE7AF6-B012-455C-8F58-295878AA98E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924130-C911-4A85-8058-F4A13A6BEB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7F3641-772F-49A2-94D9-16F62CD6778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2F06FD-09C3-4973-8F53-003F8E90998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2B8A9B-1FC8-42E0-89D0-B08C08BE633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D94831-5F0D-4D4A-8027-5D6447FE43C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5FF3F0-6AD7-43DB-860F-CE4BCEBAE5D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E73011-7126-4D91-8136-9411D62B103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01754-CAA9-4D57-B082-0A551147CA6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66769A-97BB-42A5-9DDF-644F42D2C84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08E51-C25B-48EB-BA40-702D929213A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B0530B-1667-4DD4-BD81-C4C55ACB6B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45AA20-419C-4E11-8790-FAB0D715FD0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92D56-CB64-4B98-A65E-4646C9E7554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94B7E-D2DE-45AE-AA80-5C368ED1D69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638198-5AF5-48A3-8D36-19823619765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6102C3-CACD-4059-9EC7-150E174EBE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8EF7E2-ED24-427C-8D23-3E6556F0AFE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0F201-E32B-433F-B7D4-900D8ABF4CC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C88BE-C947-4B6A-B4D6-BE6F0E3E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D87E78-4270-45F6-ABFC-F816D491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44911-C407-4748-83AF-68B6E205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FCA64B-D915-42F5-9D08-C10A5503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C2067-513E-49F5-83D8-9911C59A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FFE4D2-7ED3-43C4-A7B1-EC4A3FE2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550054-70B2-492E-9DCD-B127BD3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F27736-6A49-438A-AEF3-DCF1348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181778-A1F8-442C-A6C4-F47D92E5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FE993-851A-44ED-B300-1BAE8415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B90415-41DF-4BD7-ABE4-0E5CE0E7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A571A-194D-4886-B5F8-0BAAFF8A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F0E2F-91C2-4523-B7D4-9CB53103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85BCC5-8C4D-4587-B98F-D1CFA042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FA55E1-C5B4-4803-A2AB-65CC9C29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5A8185-5915-4F3B-A385-8645CC5D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7F0F24-F0C3-4352-85F4-13D72FC1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F82EB-591E-420B-A4E8-4F8DEA5B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B5BB23-DC0C-4B6E-B405-FE8CE244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AAB-57F5-4E45-9201-C57CD97A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89F548-3DA9-4247-9908-7603218C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29C3B-555E-477E-860E-177E84C8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178403-FFC1-4A7F-BDA1-BEC124A5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9ACF91-7D92-4A63-8E94-9A3CA330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A56EA-479A-429C-A903-43FCA201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E0DF6B-E410-4705-A82F-2B53B2B2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276A80-68F4-42F2-9684-547A7D2E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B94D94-309A-44D2-85FB-C97C0C2B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D6C372-E18B-4374-B42D-C9E0D39D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72A23A-B31E-4ED1-B55B-6249C339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B21B63-692F-4BAF-A405-5A91A31D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6840B5-6566-4522-A2CB-85BFA42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696C57-F429-4FF8-B3B5-0118026E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165E7-6F3B-4945-B336-8307D54F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5976C2-A514-44C4-BBE8-39EE6127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2EACB5-BF3A-44D8-A778-FE59CE1C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567FBD-CC94-44F7-8E9E-56D925B7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9E87A3-30C0-4578-B1A7-34285756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F70D7D-33DE-48C5-8FD7-2BDC71F5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2911E1-5164-4ED8-88C4-477FB926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C9F61B-426A-4374-ACF4-F9B32BE1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6D338C-D913-4C11-9BDA-C5C2195B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CC8E15-F8DF-4E94-8B92-7A0EFAB5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58762B-65BD-4BA6-8BEF-6F2BEFC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22FDB0-D49E-43D6-8B01-2F0A20FC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3D491D-8915-4105-96C7-8BCEF9FD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A40419-4A7B-416F-9464-C203BC8A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8333F9-7053-4080-9315-80DBE248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44284D-047E-4A35-B518-9949375C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5365E5-0005-4987-B1E3-4F0F8376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95AF6C-DE16-41FD-B62D-D8FABB81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5B29AC-CEC2-4C48-850A-079B069A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65E82D-E4FA-450F-BA2E-A00DFE37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5797B2-2ED4-4241-A895-9984FE93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0FAA99-A57D-447D-A47E-B4FC7814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0E3185-D73B-49CD-8210-F491309E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D4AD34-5C88-4DF7-9116-272F288D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8CE308-2E7D-4FBA-AB64-B0DAA984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C52598-092D-42FE-AB53-CD250165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F6E291-2FBA-426F-91D5-C854C945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7C3A09-BDB6-4669-B6BD-6712A374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513-F7D0-487A-9E75-972AC98E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4866-B0F5-48EF-AF7C-F42980FE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1288-472C-49CB-A793-3E8554BE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5E9D-CC00-479A-9E26-4C2229C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3CC-3F18-434E-83BF-9A1163C2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BFA7-1837-4E88-ACEB-AFB7B201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1CFB-413D-40AA-B956-370D2110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637B-BD52-4BA6-9E2E-90BE0EEB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6E1D-1CCB-4CB4-AD71-5C306B0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EAFE-090E-4B04-BA7D-90DF93A7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753E-9269-4F99-AB1B-34868C1A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FA2D-DF43-4240-9C71-22C383AE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9EDB-C5AA-4AE8-A1E8-5041A910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002-A356-4DAB-B020-98BF99AF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9167-594C-42FA-BE64-14A87CAC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373-775B-4514-A38F-1D44FCB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96E73-5382-45CE-BAED-E4F753B2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4DB16-6A33-4A1E-9BBB-C0F78628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2956-3CCE-4256-9052-1FA1C654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8521-9824-4262-BDB8-972EBC6C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A658-3157-4C35-92A9-2E134ABA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11C9-E25F-4BBB-BC15-547B4E00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8AED8-B610-4191-BBE5-4FC8D293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CB14-F4F0-4AF0-9D65-5EC0C417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5D2BD-D5B4-452A-9E4D-9B2CE896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3711-6012-4935-9C8D-4A049058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244-E516-4C1D-B277-ECE1077A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A94B-ABF0-4B3F-9077-DD9840D2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AC35-2028-4A27-B420-7E140D58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1D81D-633B-475A-B9F6-B49165D6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B6E8-8457-4540-80B4-B4796221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E1A4D-57BF-42F9-B5ED-61E14709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9A83B-FD1B-4AF5-8CA0-E3A890E3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BE721-D229-4F13-AB78-C2350E92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49780-37F0-40D6-A218-00648DF0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E6532-E5CA-4B8B-9CA0-DB9F46BD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CF63-A114-496D-972C-B39A216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EC75-8BC6-4D6A-A5DC-AF5FE3DF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CC19A-00B1-44CD-A6EB-3AA4B997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C4257-7308-443D-81F6-B33827AF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4E4B-C5D3-4FC5-B652-26E86231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349A9-C2C1-4A7E-A3B6-7EE299E1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BC70-D43D-4FF0-A117-91845865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1FF1C-13F0-4A47-970F-0AA7DCE7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0CEC0-1F88-44BF-AD19-09095636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9D0B-7A96-4114-B32C-4DA3B90B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42D72-FA6F-44C9-8FDD-8CEE7444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A78F-7C18-4530-AA21-006C56DD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0D7-B2A0-491E-A5A1-BCECF0A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E906-AC45-4354-BD4F-A2709647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93B3A-E6BA-4B77-A0EE-4DA7C212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C17C5-2693-4599-9584-E34E85C9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62E38-DAFC-4DEC-9FBC-D3C3BD76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09EE-2401-4E11-9F35-1FFEF787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64477-BDEA-42EF-B1B7-5A9E3391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0CAE3-1499-40B7-A995-F2ED16F4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A16D8-ADCB-4321-B8E7-E618CE7D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ACD91-84BF-4CC5-8A7D-8FFE22CB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A33B9-EDED-4CC5-8D38-E0B22811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A74-996B-442A-B099-B55914C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0C7FE-5DDC-41A5-BA66-0B09ECDC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CFF5-8FB1-46B3-BDBF-5F2459F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EFD73-D586-4781-9AD5-8F02CF1C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02A7C-88DB-4D89-A409-5285C42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73213-5367-426F-A340-300B65AE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4F300-F2D3-4290-8E54-227CA298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FEB7D-A1DD-46CB-8743-17A2E09A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2CC7-3540-4C7B-850D-FAF28D302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6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9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398" name="Straight Connector 4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8096400" y="6189840"/>
            <a:ext cx="895320" cy="668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image_preview.jpg"/>
          <p:cNvPicPr/>
          <p:nvPr/>
        </p:nvPicPr>
        <p:blipFill>
          <a:blip r:embed="rId3"/>
          <a:stretch/>
        </p:blipFill>
        <p:spPr>
          <a:xfrm>
            <a:off x="76320" y="6400800"/>
            <a:ext cx="3809880" cy="380880"/>
          </a:xfrm>
          <a:prstGeom prst="rect">
            <a:avLst/>
          </a:prstGeom>
          <a:ln w="0">
            <a:noFill/>
          </a:ln>
        </p:spPr>
      </p:pic>
      <p:sp>
        <p:nvSpPr>
          <p:cNvPr id="438" name="Straight Connector 8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49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19"/>
          </p:nvPr>
        </p:nvSpPr>
        <p:spPr>
          <a:xfrm>
            <a:off x="36572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76A8-08A7-4448-9CE4-958CACD446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8096400" y="6189840"/>
            <a:ext cx="895320" cy="668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" descr="image_preview.jpg"/>
          <p:cNvPicPr/>
          <p:nvPr/>
        </p:nvPicPr>
        <p:blipFill>
          <a:blip r:embed="rId3"/>
          <a:stretch/>
        </p:blipFill>
        <p:spPr>
          <a:xfrm>
            <a:off x="76320" y="6400800"/>
            <a:ext cx="3809880" cy="380880"/>
          </a:xfrm>
          <a:prstGeom prst="rect">
            <a:avLst/>
          </a:prstGeom>
          <a:ln w="0">
            <a:noFill/>
          </a:ln>
        </p:spPr>
      </p:pic>
      <p:sp>
        <p:nvSpPr>
          <p:cNvPr id="480" name="Straight Connector 8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49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0"/>
          </p:nvPr>
        </p:nvSpPr>
        <p:spPr>
          <a:xfrm>
            <a:off x="36572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3CCC-21D6-46E3-8766-4F3C741723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561" name="Straight Connector 9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6EEC-1915-47AE-AFC0-290BB8F842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0D7-0745-4064-8DFC-4D1B9FD746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C132-D4C0-49A1-8F5B-0D215DCD05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93D4-7FC0-42A9-923C-E62906838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B097-89C1-4F48-A9D8-D0EE77AF3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FD36-306E-4F05-9066-7C10B67D15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64C0-2FBF-4367-8E4D-BF8543B15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DAF3-774F-4846-AA4F-80704644F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55E8-019A-43AC-B044-A94E051DD0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6CC9-4B33-4104-A820-22C0DB32F0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online-stopwatch.com/countdown-timer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67a"/>
                </a:solidFill>
                <a:latin typeface="Calibri"/>
                <a:ea typeface="Arial"/>
              </a:rPr>
              <a:t>What is it we expect students to learn?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urriculum learning tasks need to be clearly stated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olicies and practices, regarding curriculum development, exist in the distri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resources are provided to give teachers in the district a common understanding of curricular expect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ope &amp; Sequence Ch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ing Gu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Documents/Curriculum M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eachers in your district know about these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67a"/>
                </a:solidFill>
                <a:latin typeface="Calibri"/>
                <a:ea typeface="Arial"/>
              </a:rPr>
              <a:t>How will we know when they have learned it?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re needs to be a plan to assess all areas taught , even those the state does not test</a:t>
            </a:r>
            <a:br>
              <a:rPr sz="32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33160" y="11430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olicies and practices, regarding assessment, exist in the distri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resources are provided to give teachers in the district a common set of tools for assessing student lear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tive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nchmark Assess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Rubr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 Task Scoring Gu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eachers in your district know about these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520" y="358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67a"/>
                </a:solidFill>
                <a:latin typeface="Calibri"/>
                <a:ea typeface="Arial"/>
              </a:rPr>
              <a:t>How will we respond when they don’t learn it?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hievement gaps need to be strategically and methodically addressed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olicies and practices, regarding student support and intervention, exist in the distri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resources are provided to give teachers in the district a common set of tools for addressing achievement ga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eachers in your district know about these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67a"/>
                </a:solidFill>
                <a:latin typeface="Calibri"/>
                <a:ea typeface="Times New Roman"/>
              </a:rPr>
              <a:t>How will we respond when they already know it?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gnitive complexity and rigor should be expected and supported</a:t>
            </a:r>
            <a:br>
              <a:rPr sz="1800"/>
            </a:br>
            <a:r>
              <a:rPr b="0" lang="en-US" sz="2800" spc="-1" strike="noStrike">
                <a:solidFill>
                  <a:srgbClr val="00467a"/>
                </a:solidFill>
                <a:latin typeface="Sylfa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policies and practices, regarding student support and enrichment, exist in the distric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resources are provided to give teachers in the district a common set of tools for addressing higher order think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eachers in your district know about these thing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2"/>
          <p:cNvSpPr/>
          <p:nvPr/>
        </p:nvSpPr>
        <p:spPr>
          <a:xfrm>
            <a:off x="36576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8B8C-3FE1-471F-AE78-4873ED823C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itle 1"/>
          <p:cNvSpPr/>
          <p:nvPr/>
        </p:nvSpPr>
        <p:spPr>
          <a:xfrm>
            <a:off x="304920" y="16002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651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roup  Discussion and Reflection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t your 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Count off 1-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et together by numb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ach group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ake one colored ca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nswer the questions on your ca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Discuss and recor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Be prepared to share with the gro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dentify the most urgent issue that emerges at your discus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(What do we need to work on REALLY soon?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4"/>
          <p:cNvSpPr/>
          <p:nvPr/>
        </p:nvSpPr>
        <p:spPr>
          <a:xfrm>
            <a:off x="0" y="434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hinking System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MS900074243[1].mid" descr=""/>
          <p:cNvPicPr/>
          <p:nvPr/>
        </p:nvPicPr>
        <p:blipFill>
          <a:blip r:embed="rId1"/>
          <a:stretch/>
        </p:blipFill>
        <p:spPr>
          <a:xfrm>
            <a:off x="3049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59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2"/>
          <p:cNvSpPr/>
          <p:nvPr/>
        </p:nvSpPr>
        <p:spPr>
          <a:xfrm>
            <a:off x="36576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E134-2811-435E-A705-275A7686F3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81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itical Questions 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6" descr="C:\Users\ERD_2\AppData\Local\Microsoft\Windows\Temporary Internet Files\Content.IE5\RVDDVPEW\MP900314301[1]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77320" y="0"/>
            <a:ext cx="1066680" cy="936720"/>
          </a:xfrm>
          <a:prstGeom prst="rect">
            <a:avLst/>
          </a:prstGeom>
          <a:ln w="0">
            <a:noFill/>
          </a:ln>
        </p:spPr>
      </p:pic>
      <p:pic>
        <p:nvPicPr>
          <p:cNvPr id="817" name="MS900074243[1].mid" descr=""/>
          <p:cNvPicPr/>
          <p:nvPr/>
        </p:nvPicPr>
        <p:blipFill>
          <a:blip r:embed="rId4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6599" fill="hold"/>
                                        <p:tgtEl>
                                          <p:spTgt spid="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19:30:24Z</dcterms:created>
  <dc:creator>Shauna Queen</dc:creator>
  <dc:description/>
  <dc:language>en-US</dc:language>
  <cp:lastModifiedBy>eedwards</cp:lastModifiedBy>
  <cp:lastPrinted>2011-02-22T19:38:04Z</cp:lastPrinted>
  <dcterms:modified xsi:type="dcterms:W3CDTF">2011-11-12T18:48:32Z</dcterms:modified>
  <cp:revision>585</cp:revision>
  <dc:subject/>
  <dc:title>PowerPoint Presentation</dc:title>
</cp:coreProperties>
</file>